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9AD3-6DC0-4949-A23A-D947D8AE987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FC4-1900-40B5-8E49-561F3C79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46D-5563-4825-9890-16686B69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3E2-3156-4468-87C3-2C41CC9F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17A-F8CD-454D-AA10-D65DE4DD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740-FF5A-445E-B8A7-70B12877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2D8-EFEA-418D-839B-5E50B4CD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65C-6FA4-472A-8D11-D7288020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DDE-A4A1-45F5-B831-126DF821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C3F-2537-404D-9290-AB699DB0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7FE-C92E-49CE-8F31-9AA53EA8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7B6-22EC-4075-BFB8-F4F482D9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365-9740-4AEC-B105-505E103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CB46-E228-4C12-8C33-AE495B33BE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DNOCENÍ PROJE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Kamila Matuš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AF7-CD0D-46FF-9D20-A6EB808669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žadatel splňuje definici pro Konečného uživate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žadatel má sídlo na území Č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rávnické osoby) nebo je občanem ČR s trvalým pobytem na území České republiky (fyzické osob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partner je právnická nebo fyzická osoba se sídlem v Č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7DE-BA67-4664-BD5B-3573468AEA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projekt bude mít dopad na cílové skupiny na území ČR, resp. na území příslušného regionu, pro který je regionální grantové schéma vyhlášené,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mimo území hlavního města Prah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podporované aktivity a cílové skupiny projektu jsou v souladu s danou výzvou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NOV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doba trvání projektu není delší než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24 měsíc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finanční podpora z OP RLZ požadovaná pro realizaci projektu není nižší než min. a vyšší než max.stanovené vyhlašovatele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AE1-CDB6-4DED-BCD8-3BFB8D411D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204640"/>
            <a:ext cx="8915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) finanční podpora z OP RLZ není plánována pro jiné než uznatelné náklady ve stanovené struktuř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) v rozpočtu jsou uvedeny vlastní zdroje žadatele -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u Pp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) požadovaná veřejná podpora není vyšší než veřejná podpora povolena ÚO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99C-A42D-4EC7-A18F-F4C75D3F93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    Ano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oba trvání projektu není delší než 24 měsíc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žádost vyřaz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24382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7339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CEA-7708-4C6D-ABDC-307ECFD51B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hodnocení založen na soubor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šesti kritéri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) zdůvodnění projektu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) cílová skupina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) realizace projektu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) výsledky a výstupy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5) horizontální témata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6) specifické požadavky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5943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460-F4BD-4702-84B7-C82AFAC198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105264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1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důvodněn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153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 zdůvodnění zámě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vazba na strategické dokume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přínos pro cílovou skupi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6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5D2-63BC-470A-82AF-6E1F393600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1052640"/>
            <a:ext cx="66438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.2 vazba na strategické dokumenty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2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s vládní, státní nebo národní strategií, politikou a progra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ylučující kritérium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kt musí získat alespoň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0 bod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569-E465-416A-92DB-B27B6DC10F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2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ílová skup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přiměřenost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zapojení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03F-558D-4CE9-9853-A28C1E05DE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3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1 klíčové aktivity a stádia realiza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2 monitorování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3 předchozí zkušenosti žadatele s řízení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dobných projekt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4 publici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5 udržitelnost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CDA-3551-4BF4-83B3-74A1FB9117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4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ýsledky a 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1 kvantifikace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2 zajištění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358-0AB5-4591-B795-B9B47286E8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9144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Administrace Opatření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předkládá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jem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dnoce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běr projektů k realiz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zhodnutí o poskytnutí d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D77-4CC6-4BA1-A483-FAE6A8A315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5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 rovné příležit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udržitelný rozv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 informační společ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místní iniciati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3C7-3517-4280-822C-961E38B999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5.1 rovné příležitosti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4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220932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pad projektu na muže a ženy, etnické menšiny, osoby se zdravotním postižením, případně další skupiny ohrožené vyloučen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ÝMI aktivitami projekt podpoří a ovlivní rozvoj rovných příležitost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ovnost žen a mužů není „záležitostí ž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projekt propaguje rovné příležit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6EC-F57B-4556-9AAD-DDB02B4CE3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6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pecifické požada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 partnerstv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 přiměřenost výše požadovaných finančních prostředků k cílům a obsahu projek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6E8-B54B-44F2-A068-869CE71AC3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6.1 partnerství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0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4247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pojení partnerů, kteří se zabývají problematikou řešenou v projektu a jejichž účast na projektu je významná z hlediska regionální, meziregionální, popř. celostátní spolupráce nebo z hlediska institucí různého typ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nerství různých institu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artnerů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-10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nejsou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tatní zdůvodněné příp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ní možné nebo účelné vytvářet pro realizaci daného projektu partnerství různých institucí, ale je odůvodněno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č nedošlo k vytvoření zmíněného partnerství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5E8-D980-4B6F-9B9F-D6CB04E306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362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teré projekty postupují do výbě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65 bod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 subkritériu vazba na strategiské dokumen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10 bo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 podle názorů hodnotitelů nemá negativní vl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některé z horizontálních té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AE1-E6F9-45CE-A94A-BA51BB746E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ýběr projektů k 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ádí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běrová kom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která při svém rozhodování vychází z výsledků věcného hodnoc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má pravomoc krátit rozpoče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rozhoduje o výběru projektů do výše přidělených fin. prostředků na dané kolo výz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BAE-82D7-4CE2-A802-867623B253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Rozhodnutí o poskytnutí d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686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veřejnění seznamu výsledků ze zasedání VK n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ísemné vyrozumění žad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spěšní žadatelé vyzváni k dodání podkladů k rozhodnutí (např. smlouvy s partn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dáno rozhodnutí o poskytnutí dot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8A1-82F5-42AF-B53C-D558B86CD8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980-3490-4CC8-9F15-7CF009FC4F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Časov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286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532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73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89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684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3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ýz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561040"/>
            <a:ext cx="1905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úno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 12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414960"/>
            <a:ext cx="167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ijatel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434320"/>
            <a:ext cx="1486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eklá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žádos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205720"/>
            <a:ext cx="1298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ěc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6920" y="3494520"/>
            <a:ext cx="1329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vá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k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ýběrov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mi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25F-46C0-47AC-B467-FEA2A82D13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fáze: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formálních nálež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přijatel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ěcné hodnocení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A43-3DE7-4EA9-A95B-BD0247331A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žádost byla dodána v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ktron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době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žádost byla dodána v tištěné podobě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x kopie nebo 3x originá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verze elektronické a tištěné žádosti jsou (dle kontrolního znaku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hodn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v žádosti jsou vyplněn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šechny předepsané úda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všechny povinné přílohy jsou dodány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 kopi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počet stránek jednotlivých příloh odpovídá počtu stran uvedenému na Seznamu přílo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00C-6B3A-41E4-9B79-9DE6B97E6C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73360"/>
            <a:ext cx="89154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jsou dodány všechny požadované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klady o právní subjektivit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žadate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bezdlužnos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partnerstv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za každého partnera, pokud je v projektu zapoje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velikosti podnik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 MS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) je dodá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řehled ekonomické a finanční situ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em podnikatelský subjek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) jsou dodány všechny specifické přílo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) nechybí žádný z požadovaný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dpis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rávněných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256-1304-43E3-B9C3-116BE8AA6F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7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žadované doklady o právní subjektivi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z. Průvodce pro žadate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ozornění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 případě, kdy je doložena výpi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obchodního rejstří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lad nesmí být starší více než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ři měsí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odání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29264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241-DDF4-4BB3-B69D-9DBE07A701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13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dpis oprávně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tární zást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89F-0424-47DB-9A50-804CFBA329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Ano 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žádost byla dodána v elektronické podob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hověla žádost kritériím přijateln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                                           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doplnění                            vyř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1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33577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79640" y="4292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4292640"/>
            <a:ext cx="28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926-D247-4222-82A4-C2B17FA45E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amila Matušů</dc:creator>
  <dc:description/>
  <dc:language>en-US</dc:language>
  <cp:lastModifiedBy>prejzovaa</cp:lastModifiedBy>
  <dcterms:modified xsi:type="dcterms:W3CDTF">2005-12-19T13:46:40Z</dcterms:modified>
  <cp:revision>33</cp:revision>
  <dc:subject/>
  <dc:title>Hodnoce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5367238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9083974</vt:r8>
  </property>
  <property fmtid="{D5CDD505-2E9C-101B-9397-08002B2CF9AE}" pid="7" name="_ReviewingToolsShownOnce">
    <vt:lpwstr/>
  </property>
</Properties>
</file>